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413-1D1D-46FF-A429-71073B0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4A4-3D9A-4613-9255-A56EB9FD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99F-40FE-419B-B1C4-12D7A9E9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370-455A-4056-9D83-89005781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BB6A-B73D-44EE-8F68-6A3271A4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4296-4BBB-4904-804A-F97113E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8A2-3D05-4750-9065-72EC4DFF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0D1-E0D3-4041-A4D7-D04DA35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073-13F5-4E7C-8B1A-A1245C5F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7631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F6F9-4020-4BCA-8941-F9B9FBA1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4F7-BBE0-423C-9E3C-2B93B38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C2B-E4CB-406C-86FA-64D353FA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548E-1E55-4A9A-AB01-29BE46F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F098-29D2-4F98-9758-859529D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C99-BA96-4E64-ADCB-79E93971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37AB-656F-4284-980D-DC0AC26B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6584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0272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00AA-8709-4EF2-96C0-E88FCC62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6D6-B11D-4137-8F86-79F283F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C6E-01E2-4BF2-A91C-1B7C2641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15A-63E1-4B87-876D-14ABBE6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7631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270-A938-462D-B277-8ED0EAA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DE1-9254-4A70-B12B-ADBA46E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3BF-122E-4296-817C-4032BDD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57A-6C0E-4317-836B-83B1F38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09000" indent="-4334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74120" indent="-463320">
              <a:spcBef>
                <a:spcPts val="1001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F45-0F99-4BBF-A53B-F778B7E5DA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0"/>
            <a:ext cx="8737200" cy="1523880"/>
            <a:chOff x="228600" y="0"/>
            <a:chExt cx="8737200" cy="1523880"/>
          </a:xfrm>
        </p:grpSpPr>
        <p:sp>
          <p:nvSpPr>
            <p:cNvPr id="6" name="Line 8"/>
            <p:cNvSpPr/>
            <p:nvPr/>
          </p:nvSpPr>
          <p:spPr>
            <a:xfrm flipH="1">
              <a:off x="406800" y="1523880"/>
              <a:ext cx="83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6120" y="0"/>
              <a:ext cx="229680" cy="2174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28600" y="0"/>
              <a:ext cx="8504280" cy="217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28600" y="217440"/>
              <a:ext cx="8504280" cy="1328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6120" y="219240"/>
              <a:ext cx="229680" cy="129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09000" indent="-4334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74120" indent="-463320">
              <a:spcBef>
                <a:spcPts val="1001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99A-A2FE-4DD4-98D5-2D87FA11ED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ildlife and Human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c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9, sheep and goat producers lost an estimated $19.9 million due to pred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0, cattle producers’ losses to predators were worth $51.6 mill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life damages to U.S. agriculture was estimated at $944 million during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 alone accounts for more than $90 million annually in crop damages from wild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bird populations cause an estimated annual lose to U.S. agriculture of $100 mill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nflower and rice crops are a favorite of blackbirds, leading to $4 to 11 million worth of losses annu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s, blueberries and grapes have been estimated at more than $40 million in da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ring one year in Pennsylvania, white tailed deer cause crop losses totaling $30 mill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stimated $100 million in damage each year to private and public property is due to beav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sissippi catfish farmers lose nearly $6 million worth of fingerlings to fish eating bi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diseases that cause illness and death in humans are carried and transmitted by wildlif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onoses are diseases transmissible from animal to man.  There are over 200 such disea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used by bacteria and is transmitted by different species of black legged ticks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highest risk area for this disease is along the Mid Atlantic and northern U.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ar protective clothing when outside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ver all exposed sk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mosquito b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ects people, horses, and birds most common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toms include low-grade fever, rash or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NV was first diagnosed in the U.S. in 199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quitoes feed on infected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fected mosquitoes than bite humans and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if bitten by an infected mosquito, you have less than a 1% chance of inf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onic Pla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sease that is transmitted by fleas that are infected by their host ro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toms include swollen and very tender lymph gland, accompanied by pain, fever, chills, and headach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ccurrence has been 10-20 cases per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mitted by contact with the saliva of an infected animal (bite or scratch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hough human can get rabies from wild animals, the most common way to get it is from infected domestic do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high frequency sound waves to navigate and find foo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noctur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sleeps during the day and is active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scratch and crawl through attics and walls damaging the walls and leaving droppings beh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 and smaller mammals consume tree seedlings and other cro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rds can decimate grain and sunflower field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ators attack livestock and other domestic anim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20:13Z</dcterms:created>
  <dc:creator>Steve Sargeant</dc:creator>
  <dc:description/>
  <dc:language>en-US</dc:language>
  <cp:lastModifiedBy>Alicia Burge</cp:lastModifiedBy>
  <dcterms:modified xsi:type="dcterms:W3CDTF">2011-04-26T21:31:49Z</dcterms:modified>
  <cp:revision>23</cp:revision>
  <dc:subject/>
  <dc:title>Identifying Problems Caused by Wildlife</dc:title>
</cp:coreProperties>
</file>